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B08-6A39-4C15-BED9-C0E609B9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912-28C2-4FFA-8C3A-C9510390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059-D9D9-4407-A86A-FB5472A3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2EC-44A4-4AA9-9B49-E59992AA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8D7-B6FB-43F6-AA75-885816A4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482-2E6F-4C55-B3F9-4BFF7755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BE7-90FC-4FC6-AAF8-2398CD05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46A-2BFD-4715-8C69-9BC94BA1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5D8-561C-48E6-8919-179AD6E0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68F-6453-4664-A8EC-490B6A39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674-C2B0-4308-A812-38AA98AC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94A-9FA1-4ACA-91E9-535A784D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9E5F-2F4E-4A8E-94F0-FF687F3E5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ments in Clean Water Law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Civi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forcement Developments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W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Se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a Fe, New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5257800"/>
            <a:ext cx="27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nold Law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Francisco, CA 94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3B0-73B1-4914-98EE-6282F99CF4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ole of the Lawyer in Environmental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servative "predictor"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law requires (duties)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law gives (r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lawyer in a confidential relationship represents and counsels a client in protecting and asserting rights protected by the law and in fulfilling duties required by th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821-BAF5-4417-AECE-E45AB136ED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win Go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rence –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t That Out, Now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Economic Incentiv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n’t Buy License to Poll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455-77FB-4220-8C77-79C576ADF2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A’s 2005-2007 Prior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t Weather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BC5-A51C-4A88-A40F-DA830758B8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forcement Mechanis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3200"/>
            <a:ext cx="8153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eral Enforcement and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vate” Enforcement &amp;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769-9F6C-479F-AEA1-68866D3175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eral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ing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evelopments in Law Gene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rence Through Press Relea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on 9 --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357-3A37-48A2-9D79-4902979CB6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vate” Enforcement and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itizen S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sma Dairy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zen Ps have big cl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fornia” Issues illustrate US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erican Canoe Association, Inc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nky sewer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3AE-EA39-4CC4-AAD9-7851E2E632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me solu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It’s a Mistake, Not a Viola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AEB-55A7-458E-AACD-0D0CBC0B87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vil Enforcement Development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 The Arnold Law Practice, James R. Arno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184-0A1E-4F76-8107-E2CE185BE6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8:10:41Z</dcterms:created>
  <dc:creator>jim</dc:creator>
  <dc:description/>
  <dc:language>en-US</dc:language>
  <cp:lastModifiedBy>jim</cp:lastModifiedBy>
  <dcterms:modified xsi:type="dcterms:W3CDTF">2005-10-26T21:48:15Z</dcterms:modified>
  <cp:revision>23</cp:revision>
  <dc:subject/>
  <dc:title>“Update on Environmental Enforcement: Tips and Trends”</dc:title>
</cp:coreProperties>
</file>