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BAD-2563-48AC-B1AB-10596A62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672-1C9C-40B6-9F76-47BBB505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577-D32B-4939-AED3-9AFF2AFE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2D3-3DC7-4123-966F-690C765B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3E8-63FD-4A02-9B15-C8FAFA54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B9C-31FA-4E7C-9CC3-DE066A1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D7C-51D0-4483-BDDD-DDF7A8BA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748-C889-4CA2-9C1A-EA01E75E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70F-ED07-4CC1-938D-6282EA9D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FDE-FD1D-4417-BA95-8296A482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5BB-7E7A-408C-950A-0FB1BC4C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C6B-4663-4988-879C-10E9384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081-9CC7-415B-8882-25A7D13F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ments in Clean Water Law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Civi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forcement Developments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W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a Fe, New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5257800"/>
            <a:ext cx="27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nold Law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Francisco, CA 94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971-9E36-4723-A82A-D049E9C5D9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ole of the Lawyer in Environmental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servative "predictor"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law requires (duties)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law gives (r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lawyer in a confidential relationship represents and counsels a client in protecting and asserting rights protected by the law and in fulfilling duties required by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38B-66E0-4B45-A51A-46CD5CC199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win Go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rence –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t That Out, Now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Economic Incentiv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’t Buy License to Poll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189-EB03-4500-9A50-2D5ED9027F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’s 2005-2007 Prio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t Weather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109-FB9A-43CB-AD8F-F4A16CD53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forcement Mechanis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3200"/>
            <a:ext cx="8153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 Enforcement and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te” Enforcement &amp;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884-1C76-4280-BC74-E2B8E2F834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velopments in Law Gene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rence Through Press Relea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 9 --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B61-56C9-4037-A81C-970E66C2C7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te” Enforcement and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itizen S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sma Dairy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zen Ps have big cl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ornia” Issues illustrate U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erican Canoe Association, Inc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nky sewer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E8C-C666-4355-87EB-8A8735B4C7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solu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t’s a Mistake, Not a Viol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084-B0AC-4F6A-B689-3D32621706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0C7-C9FF-4615-8F9E-02C6894772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8:10:41Z</dcterms:created>
  <dc:creator>jim</dc:creator>
  <dc:description/>
  <dc:language>en-US</dc:language>
  <cp:lastModifiedBy>jim</cp:lastModifiedBy>
  <dcterms:modified xsi:type="dcterms:W3CDTF">2005-10-26T21:48:15Z</dcterms:modified>
  <cp:revision>23</cp:revision>
  <dc:subject/>
  <dc:title>“Update on Environmental Enforcement: Tips and Trends”</dc:title>
</cp:coreProperties>
</file>