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66C68-FC2D-442F-BF16-5F98E8DA2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A311E-1FF1-4547-B681-7CD1ADF8C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B7EFF-22DC-4EDA-9768-8283B83D3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6A54D-203C-4907-8655-31E321254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4E65C-0BBE-42A7-B077-292D40111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EA63D-170B-442E-8757-A71B0AD00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2E6B6-7D35-4AED-BB2F-4BBCA387E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8002B-CD17-4A79-8F1B-7C62BC114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51582-1A05-45D7-B037-734256807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3F36F-7ECF-4271-B572-06B3C524A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94209-DAB8-4598-B1A0-0E02C5716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0E160-9657-4F99-BFCF-19981074D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E41FD-A6A1-405F-8AB6-7194B9DF1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15949-6594-4B76-87F8-8AA25F2F7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F4984-F4D9-40FE-B384-EA6E32793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1E363-A1A0-42EB-A489-27F6934A6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DB932-BA0A-4C38-AD96-E5B32C302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8C720-3F84-4CDD-8EE1-3AECBFE5B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E321A-744E-4685-8494-E1D2B853D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E40C4-4016-4627-BF54-93B550A2F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ECD75-E25D-4A92-923C-BC441B866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48392-188A-4A9D-9BD6-B4A9715E2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F743F-1643-496F-8FCD-2E2F90EE1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3A2FC-CA48-4118-9364-6912700C2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5541-291C-483A-A498-D946D8C748B6}" type="datetime">
              <a:rPr b="0" lang="en-US" sz="1200" spc="-1" strike="noStrike">
                <a:solidFill>
                  <a:srgbClr val="ffffff"/>
                </a:solidFill>
                <a:latin typeface="Tahoma"/>
              </a:rPr>
              <a:t>07/30/26</a:t>
            </a:fld>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F4D7-E24D-455E-9AE2-B1CBCDF176B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E31E-48B3-4EEB-940A-FB9AEFD9CAD3}" type="datetime">
              <a:rPr b="0" lang="en-US" sz="1200" spc="-1" strike="noStrike">
                <a:solidFill>
                  <a:srgbClr val="ffffff"/>
                </a:solidFill>
                <a:latin typeface="Tahoma"/>
              </a:rPr>
              <a:t>07/30/26</a:t>
            </a:fld>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2C5E-F234-42FF-B528-AEEF203202D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Key TMDL Allocation Issue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dric P. Ande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nes &amp; Thornburg LLP</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vember 9, 2005</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27C24920-D718-447C-9CEA-775E52ACA6AE}" type="slidenum">
              <a:t>1</a:t>
            </a:fld>
          </a:p>
        </p:txBody>
      </p:sp>
      <p:sp>
        <p:nvSpPr>
          <p:cNvPr id="5" name="PlaceHolder 4"/>
          <p:cNvSpPr>
            <a:spLocks noGrp="1"/>
          </p:cNvSpPr>
          <p:nvPr>
            <p:ph type="dt" idx="4"/>
          </p:nvPr>
        </p:nvSpPr>
        <p:spPr/>
        <p:txBody>
          <a:bodyPr/>
          <a:p>
            <a:fld id="{E3BF6A38-16A2-4137-9691-2A3B8FAA3803}"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on-Numeric Options</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ways explore options for applying non-numeric requirements instead of numeric limits, such as BMPs and PMP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MPs are often used for storm water sources – consistent with EPA polic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MPs have been used for de minimis sources of mercury and PCB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Delaware River PCB TMDL provided PMPs even for non-de minimis source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64B895A-2E2E-4247-A68F-574B7FF0B394}" type="slidenum">
              <a:t>10</a:t>
            </a:fld>
          </a:p>
        </p:txBody>
      </p:sp>
      <p:sp>
        <p:nvSpPr>
          <p:cNvPr id="5" name="PlaceHolder 4"/>
          <p:cNvSpPr>
            <a:spLocks noGrp="1"/>
          </p:cNvSpPr>
          <p:nvPr>
            <p:ph type="dt" idx="1"/>
          </p:nvPr>
        </p:nvSpPr>
        <p:spPr/>
        <p:txBody>
          <a:bodyPr/>
          <a:p>
            <a:fld id="{2B83D478-B912-4405-A1EF-707DD33FDD03}"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riances</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ances are valuable tool for obtaining reasonable limits when compliance with  water quality-based limits is not feasible</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no reason that you cannot ask for variance from limit that is based on a TMDL allocation</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States differ in variance procedures, so you have to check your State rule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F9E0C19-A052-41F7-982A-48C1ACBF249E}" type="slidenum">
              <a:t>11</a:t>
            </a:fld>
          </a:p>
        </p:txBody>
      </p:sp>
      <p:sp>
        <p:nvSpPr>
          <p:cNvPr id="5" name="PlaceHolder 4"/>
          <p:cNvSpPr>
            <a:spLocks noGrp="1"/>
          </p:cNvSpPr>
          <p:nvPr>
            <p:ph type="dt" idx="1"/>
          </p:nvPr>
        </p:nvSpPr>
        <p:spPr/>
        <p:txBody>
          <a:bodyPr/>
          <a:p>
            <a:fld id="{71DFC7D6-1017-4DC3-894C-F55457A7AC92}"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CLUSION</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MDL process as a whole, but particularly the allocation decision, is where your permit limits will be decide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all available options – legal, technical and strategic – for maximizing your allocatio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hat the allocation process is a zero-sum game – so try to avoid listing and TMDL if at all possible</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30D23BF-2E05-4741-88F2-83CE02BB3703}" type="slidenum">
              <a:t>12</a:t>
            </a:fld>
          </a:p>
        </p:txBody>
      </p:sp>
      <p:sp>
        <p:nvSpPr>
          <p:cNvPr id="5" name="PlaceHolder 4"/>
          <p:cNvSpPr>
            <a:spLocks noGrp="1"/>
          </p:cNvSpPr>
          <p:nvPr>
            <p:ph type="dt" idx="1"/>
          </p:nvPr>
        </p:nvSpPr>
        <p:spPr/>
        <p:txBody>
          <a:bodyPr/>
          <a:p>
            <a:fld id="{61921ECA-FC2F-4018-B18B-A650FAA1DB13}"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sic Allocation Rules</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le No. 1: Your wasteload allocation (WLA) in the TMDL determines your future permit limits, so treat the TMDL/allocation process as the start of your permit proces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le No. 2: The State has a lot of discretion in determining allocation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le No. 3: BUT you have options for affecting the use of that discre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F5EA31C-3730-4D63-9258-FB39F377145E}" type="slidenum">
              <a:t>2</a:t>
            </a:fld>
          </a:p>
        </p:txBody>
      </p:sp>
      <p:sp>
        <p:nvSpPr>
          <p:cNvPr id="5" name="PlaceHolder 4"/>
          <p:cNvSpPr>
            <a:spLocks noGrp="1"/>
          </p:cNvSpPr>
          <p:nvPr>
            <p:ph type="dt" idx="1"/>
          </p:nvPr>
        </p:nvSpPr>
        <p:spPr/>
        <p:txBody>
          <a:bodyPr/>
          <a:p>
            <a:fld id="{1216FEA6-0F0B-4CAF-9D7D-1AFCCFDCF816}"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 to Consider</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MDL/allocation attainabl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State making proper use of adaptive management concep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State assuming either too much or too little reductions from nonpoint sourc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 State assigned proper allocation for storm water source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4F366C5-0D63-4617-BB02-FF336E155C93}" type="slidenum">
              <a:t>3</a:t>
            </a:fld>
          </a:p>
        </p:txBody>
      </p:sp>
      <p:sp>
        <p:nvSpPr>
          <p:cNvPr id="5" name="PlaceHolder 4"/>
          <p:cNvSpPr>
            <a:spLocks noGrp="1"/>
          </p:cNvSpPr>
          <p:nvPr>
            <p:ph type="dt" idx="1"/>
          </p:nvPr>
        </p:nvSpPr>
        <p:spPr/>
        <p:txBody>
          <a:bodyPr/>
          <a:p>
            <a:fld id="{8FDFE62C-011B-484B-8362-CB27E8A5C1F5}"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Issues to Consider</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 State considered practical issues in determining allocations, such as cost, attainability and equi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there options for use of Pollutant Minimization Programs or other non-numeric requirements instead of limi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MDL allocation is problematic for you, can you get a variance later?</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86EDE2D-E55D-48BC-BB0D-6D7FC5E6A226}" type="slidenum">
              <a:t>4</a:t>
            </a:fld>
          </a:p>
        </p:txBody>
      </p:sp>
      <p:sp>
        <p:nvSpPr>
          <p:cNvPr id="5" name="PlaceHolder 4"/>
          <p:cNvSpPr>
            <a:spLocks noGrp="1"/>
          </p:cNvSpPr>
          <p:nvPr>
            <p:ph type="dt" idx="1"/>
          </p:nvPr>
        </p:nvSpPr>
        <p:spPr/>
        <p:txBody>
          <a:bodyPr/>
          <a:p>
            <a:fld id="{1E5875CF-9A0F-41F4-A746-2EC590BEF6A1}"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tainabilit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developing TMDLs, States often ignore evidence that underlying water quality standard cannot feasibly be attained</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leads to WLAs that cannot feasibly be met, or which impose costly requirements but do not result in attainment of standards</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NOT LEGAL – if standard cannot be attained, it should be changed</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A7E67F2-9F19-4428-B7B6-69D925079EEC}" type="slidenum">
              <a:t>5</a:t>
            </a:fld>
          </a:p>
        </p:txBody>
      </p:sp>
      <p:sp>
        <p:nvSpPr>
          <p:cNvPr id="5" name="PlaceHolder 4"/>
          <p:cNvSpPr>
            <a:spLocks noGrp="1"/>
          </p:cNvSpPr>
          <p:nvPr>
            <p:ph type="dt" idx="1"/>
          </p:nvPr>
        </p:nvSpPr>
        <p:spPr/>
        <p:txBody>
          <a:bodyPr/>
          <a:p>
            <a:fld id="{E36D09B6-268E-4C3D-AF4D-D544F81682B3}"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aptive TMDL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aptive management is supposed to allow development of TMDLs despite uncertainties/data gaps, with process for reviewing and revising TMDL later</a:t>
            </a:r>
            <a:endParaRPr b="0" lang="en-US" sz="3200" spc="-1" strike="noStrike">
              <a:solidFill>
                <a:srgbClr val="ffffff"/>
              </a:solidFill>
              <a:latin typeface="Tahoma"/>
            </a:endParaRPr>
          </a:p>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k is that due to antibacksliding, you will NOT be able to get less stringent limit when TMDL revised, even if you deserve it</a:t>
            </a:r>
            <a:endParaRPr b="0" lang="en-US" sz="3200" spc="-1" strike="noStrike">
              <a:solidFill>
                <a:srgbClr val="ffffff"/>
              </a:solidFill>
              <a:latin typeface="Tahoma"/>
            </a:endParaRPr>
          </a:p>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 you need to assume that any WLA received in adaptive TMDL will last forever</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1A312E3-AD5C-4053-A542-4E35B00C81CA}" type="slidenum">
              <a:t>6</a:t>
            </a:fld>
          </a:p>
        </p:txBody>
      </p:sp>
      <p:sp>
        <p:nvSpPr>
          <p:cNvPr id="5" name="PlaceHolder 4"/>
          <p:cNvSpPr>
            <a:spLocks noGrp="1"/>
          </p:cNvSpPr>
          <p:nvPr>
            <p:ph type="dt" idx="1"/>
          </p:nvPr>
        </p:nvSpPr>
        <p:spPr/>
        <p:txBody>
          <a:bodyPr/>
          <a:p>
            <a:fld id="{B07C1499-66CD-4D80-B1B6-FD6E2AD4E22A}"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onpoint Sourc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nonpoints get too little reduction, then points have to make up for that shortfall</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if nonpoints get more reduction than is realistic, TMDL may be vulnerable to legal challenge, and allows State to sidestep standard attainability problem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hat reductions from nonpoint voluntary programs CAN be factored into TMDL</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E8027B3-58EA-480D-BC68-D57052066B57}" type="slidenum">
              <a:t>7</a:t>
            </a:fld>
          </a:p>
        </p:txBody>
      </p:sp>
      <p:sp>
        <p:nvSpPr>
          <p:cNvPr id="5" name="PlaceHolder 4"/>
          <p:cNvSpPr>
            <a:spLocks noGrp="1"/>
          </p:cNvSpPr>
          <p:nvPr>
            <p:ph type="dt" idx="1"/>
          </p:nvPr>
        </p:nvSpPr>
        <p:spPr/>
        <p:txBody>
          <a:bodyPr/>
          <a:p>
            <a:fld id="{748C6DD9-2288-4D24-BDB8-AB81F3481DD5}"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orm Water </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TMDLs do not directly address allocations for storm water sourc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at is NOT a good thing – if no allocation, then maybe not allowed to discharg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 you need to make sure that your storm water discharges are addressed in the TMDL</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that can be done without imposing numeric limits – can meet allocation through BMP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6CB9D04-9BDA-4DF4-8E21-65ED7DB995EC}" type="slidenum">
              <a:t>8</a:t>
            </a:fld>
          </a:p>
        </p:txBody>
      </p:sp>
      <p:sp>
        <p:nvSpPr>
          <p:cNvPr id="5" name="PlaceHolder 4"/>
          <p:cNvSpPr>
            <a:spLocks noGrp="1"/>
          </p:cNvSpPr>
          <p:nvPr>
            <p:ph type="dt" idx="1"/>
          </p:nvPr>
        </p:nvSpPr>
        <p:spPr/>
        <p:txBody>
          <a:bodyPr/>
          <a:p>
            <a:fld id="{D32CA18D-FF03-4CA8-9CF8-A21C8E3B3B23}"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ocation Factor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 having discretion in allocation process can be BAD – or GOO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leaves you with ability to urge consideration of factors such as cost of controls, comparing attainability of reductions between dischargers, and equity of requiring further reductions from sources that have already made reductions through expensive control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FAB4B74-34FF-42EF-B793-06EDE3C6DC34}" type="slidenum">
              <a:t>9</a:t>
            </a:fld>
          </a:p>
        </p:txBody>
      </p:sp>
      <p:sp>
        <p:nvSpPr>
          <p:cNvPr id="5" name="PlaceHolder 4"/>
          <p:cNvSpPr>
            <a:spLocks noGrp="1"/>
          </p:cNvSpPr>
          <p:nvPr>
            <p:ph type="dt" idx="1"/>
          </p:nvPr>
        </p:nvSpPr>
        <p:spPr/>
        <p:txBody>
          <a:bodyPr/>
          <a:p>
            <a:fld id="{B91280E2-75DA-4F61-9FD9-B80766AA3B70}"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edric Andes</cp:lastModifiedBy>
  <dcterms:modified xsi:type="dcterms:W3CDTF">2005-10-27T05:12:41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