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CAMERA.WAV" ContentType="audio/x-wav"/>
  <Override PartName="/ppt/media/image1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3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0"/>
            <a:ext cx="2971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66124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66124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71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86200" y="0"/>
            <a:ext cx="2971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866124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866124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71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all disputes vs. only technical issues (like Metrow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do limit scope to technical issues, must have another ADR procedure for oth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e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total cost is generally less than ½ of 1% of construction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esson Learn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take great care in selection – DRB only as good as its individual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it is not a court – it is a settlem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all disputes vs. only technical issues (like Metrow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do limit scope to technical issues, must have another ADR procedure for oth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e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total cost is generally less than ½ of 1% of construction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esson Learn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take great care in selection – DRB only as good as its individual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it is not a court – it is a settlem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8476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476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61240"/>
            <a:ext cx="2973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3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04920" y="766800"/>
            <a:ext cx="4451400" cy="33386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0"/>
            <a:ext cx="2971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66124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66124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71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768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057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768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768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057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057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768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768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768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057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057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768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057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768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057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768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65240"/>
            <a:ext cx="8813520" cy="61466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lin ang="81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371600"/>
            <a:ext cx="8839440" cy="1522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afd00"/>
              </a:buClr>
              <a:buSzPct val="75000"/>
              <a:buFont typeface="ZapfDingbats BT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422360"/>
            <a:ext cx="8839440" cy="50760"/>
          </a:xfrm>
          <a:prstGeom prst="rect">
            <a:avLst/>
          </a:prstGeom>
          <a:gradFill rotWithShape="0">
            <a:gsLst>
              <a:gs pos="0">
                <a:srgbClr val="011244"/>
              </a:gs>
              <a:gs pos="50000">
                <a:srgbClr val="063de8"/>
              </a:gs>
              <a:gs pos="100000">
                <a:srgbClr val="0112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3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3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jpeg"/><Relationship Id="rId3" Type="http://schemas.openxmlformats.org/officeDocument/2006/relationships/image" Target="../media/image23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3.jpeg"/><Relationship Id="rId5" Type="http://schemas.openxmlformats.org/officeDocument/2006/relationships/image" Target="../media/image23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3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jpeg"/><Relationship Id="rId3" Type="http://schemas.openxmlformats.org/officeDocument/2006/relationships/image" Target="../media/image23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3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244880" cy="1244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5120" y="4421160"/>
            <a:ext cx="2102040" cy="183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National Association of Clean Water Agencies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005 Developments in Clean Water Law</a:t>
            </a:r>
            <a:br>
              <a:rPr sz="3200"/>
            </a:br>
            <a:br>
              <a:rPr sz="1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anta Fe, New Mexico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ovember 9-11, 2005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struction Law: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Managing Risks and Dealing With Dispute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560" y="5410080"/>
            <a:ext cx="2272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eal J. Swee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kslogo_color" descr=""/>
          <p:cNvPicPr/>
          <p:nvPr/>
        </p:nvPicPr>
        <p:blipFill>
          <a:blip r:embed="rId3"/>
          <a:stretch/>
        </p:blipFill>
        <p:spPr>
          <a:xfrm>
            <a:off x="6781680" y="6024600"/>
            <a:ext cx="2133720" cy="83340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4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78520" y="1166760"/>
            <a:ext cx="1244880" cy="1244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934320" y="4775040"/>
            <a:ext cx="1778040" cy="14734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51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pecific?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“Care And Skill Ordinarily Used By Members Of The Engineering Profession Practicing Under Similar Conditions And At The Same Time And Locality.”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19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Standard of Care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5" name="kslogo_color" descr=""/>
          <p:cNvPicPr/>
          <p:nvPr/>
        </p:nvPicPr>
        <p:blipFill>
          <a:blip r:embed="rId3"/>
          <a:stretch/>
        </p:blipFill>
        <p:spPr>
          <a:xfrm>
            <a:off x="7848720" y="6351480"/>
            <a:ext cx="12952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4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96080" y="1447920"/>
            <a:ext cx="1244880" cy="1244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13520" y="3597120"/>
            <a:ext cx="1778040" cy="1473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41440" y="1905120"/>
            <a:ext cx="7772400" cy="34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n obligation that all or part of the project  will perform in a certain wa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rict liabilit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duct output, energy usage, pollution discharge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struction costs?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nforceable if clear &amp; unambiguou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enerally not insured under a standard E&amp;O polic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755640" y="228240"/>
            <a:ext cx="823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erformance Guarantees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60" name="kslogo_color" descr=""/>
          <p:cNvPicPr/>
          <p:nvPr/>
        </p:nvPicPr>
        <p:blipFill>
          <a:blip r:embed="rId3"/>
          <a:stretch/>
        </p:blipFill>
        <p:spPr>
          <a:xfrm>
            <a:off x="7848720" y="6351480"/>
            <a:ext cx="12952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4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042aa1"/>
            </a:gs>
            <a:gs pos="50000">
              <a:srgbClr val="063de8"/>
            </a:gs>
            <a:gs pos="100000">
              <a:srgbClr val="042a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1280" y="1366920"/>
            <a:ext cx="8848800" cy="4857840"/>
            <a:chOff x="71280" y="1366920"/>
            <a:chExt cx="8848800" cy="4857840"/>
          </a:xfrm>
        </p:grpSpPr>
        <p:grpSp>
          <p:nvGrpSpPr>
            <p:cNvPr id="162" name=""/>
            <p:cNvGrpSpPr/>
            <p:nvPr/>
          </p:nvGrpSpPr>
          <p:grpSpPr>
            <a:xfrm>
              <a:off x="3352680" y="1752120"/>
              <a:ext cx="2895840" cy="2133720"/>
              <a:chOff x="3352680" y="1752120"/>
              <a:chExt cx="2895840" cy="2133720"/>
            </a:xfrm>
          </p:grpSpPr>
          <p:sp>
            <p:nvSpPr>
              <p:cNvPr id="163" name=""/>
              <p:cNvSpPr/>
              <p:nvPr/>
            </p:nvSpPr>
            <p:spPr>
              <a:xfrm rot="10800000">
                <a:off x="3352680" y="1751760"/>
                <a:ext cx="2895840" cy="2133720"/>
              </a:xfrm>
              <a:prstGeom prst="triangle">
                <a:avLst>
                  <a:gd name="adj" fmla="val 5112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52920" y="1824120"/>
                <a:ext cx="2219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The Liability Ga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81520" y="2509920"/>
                <a:ext cx="1762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wis721 Blk BT"/>
                  </a:rPr>
                  <a:t>OW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326280" y="3583080"/>
              <a:ext cx="1825560" cy="39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wis721 Blk BT"/>
                </a:rPr>
                <a:t>GEOT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640480" y="4649760"/>
              <a:ext cx="3273480" cy="1575000"/>
              <a:chOff x="5640480" y="4649760"/>
              <a:chExt cx="3273480" cy="1575000"/>
            </a:xfrm>
          </p:grpSpPr>
          <p:sp>
            <p:nvSpPr>
              <p:cNvPr id="168" name=""/>
              <p:cNvSpPr/>
              <p:nvPr/>
            </p:nvSpPr>
            <p:spPr>
              <a:xfrm>
                <a:off x="6249960" y="4649760"/>
                <a:ext cx="200520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DESIGN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40480" y="5830920"/>
                <a:ext cx="327348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SUBCONSULT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4040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7536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1032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7868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06360" y="4649760"/>
              <a:ext cx="3349800" cy="1552680"/>
              <a:chOff x="306360" y="4649760"/>
              <a:chExt cx="3349800" cy="15526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6360" y="5808600"/>
                <a:ext cx="334980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SUBCONTRACT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112536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167328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222084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70036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7480" y="4649760"/>
                <a:ext cx="239076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CONTRA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2008080" y="2671920"/>
              <a:ext cx="1890720" cy="1993680"/>
            </a:xfrm>
            <a:custGeom>
              <a:avLst/>
              <a:gdLst/>
              <a:ahLst/>
              <a:rect l="l" t="t" r="r" b="b"/>
              <a:pathLst>
                <a:path w="1191" h="1256">
                  <a:moveTo>
                    <a:pt x="0" y="1255"/>
                  </a:moveTo>
                  <a:lnTo>
                    <a:pt x="4" y="1222"/>
                  </a:lnTo>
                  <a:lnTo>
                    <a:pt x="4" y="1175"/>
                  </a:lnTo>
                  <a:lnTo>
                    <a:pt x="8" y="1123"/>
                  </a:lnTo>
                  <a:lnTo>
                    <a:pt x="8" y="1067"/>
                  </a:lnTo>
                  <a:lnTo>
                    <a:pt x="8" y="1001"/>
                  </a:lnTo>
                  <a:lnTo>
                    <a:pt x="8" y="935"/>
                  </a:lnTo>
                  <a:lnTo>
                    <a:pt x="12" y="790"/>
                  </a:lnTo>
                  <a:lnTo>
                    <a:pt x="23" y="644"/>
                  </a:lnTo>
                  <a:lnTo>
                    <a:pt x="35" y="573"/>
                  </a:lnTo>
                  <a:lnTo>
                    <a:pt x="51" y="508"/>
                  </a:lnTo>
                  <a:lnTo>
                    <a:pt x="67" y="442"/>
                  </a:lnTo>
                  <a:lnTo>
                    <a:pt x="90" y="385"/>
                  </a:lnTo>
                  <a:lnTo>
                    <a:pt x="118" y="334"/>
                  </a:lnTo>
                  <a:lnTo>
                    <a:pt x="153" y="291"/>
                  </a:lnTo>
                  <a:lnTo>
                    <a:pt x="196" y="254"/>
                  </a:lnTo>
                  <a:lnTo>
                    <a:pt x="243" y="221"/>
                  </a:lnTo>
                  <a:lnTo>
                    <a:pt x="302" y="193"/>
                  </a:lnTo>
                  <a:lnTo>
                    <a:pt x="369" y="164"/>
                  </a:lnTo>
                  <a:lnTo>
                    <a:pt x="436" y="141"/>
                  </a:lnTo>
                  <a:lnTo>
                    <a:pt x="510" y="122"/>
                  </a:lnTo>
                  <a:lnTo>
                    <a:pt x="664" y="89"/>
                  </a:lnTo>
                  <a:lnTo>
                    <a:pt x="821" y="61"/>
                  </a:lnTo>
                  <a:lnTo>
                    <a:pt x="895" y="52"/>
                  </a:lnTo>
                  <a:lnTo>
                    <a:pt x="966" y="42"/>
                  </a:lnTo>
                  <a:lnTo>
                    <a:pt x="1033" y="33"/>
                  </a:lnTo>
                  <a:lnTo>
                    <a:pt x="1092" y="23"/>
                  </a:lnTo>
                  <a:lnTo>
                    <a:pt x="1147" y="9"/>
                  </a:lnTo>
                  <a:lnTo>
                    <a:pt x="119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53200" y="2631960"/>
              <a:ext cx="1936440" cy="922320"/>
            </a:xfrm>
            <a:custGeom>
              <a:avLst/>
              <a:gdLst/>
              <a:ahLst/>
              <a:rect l="l" t="t" r="r" b="b"/>
              <a:pathLst>
                <a:path w="1220" h="581">
                  <a:moveTo>
                    <a:pt x="0" y="150"/>
                  </a:moveTo>
                  <a:lnTo>
                    <a:pt x="29" y="143"/>
                  </a:lnTo>
                  <a:lnTo>
                    <a:pt x="58" y="136"/>
                  </a:lnTo>
                  <a:lnTo>
                    <a:pt x="139" y="111"/>
                  </a:lnTo>
                  <a:lnTo>
                    <a:pt x="235" y="79"/>
                  </a:lnTo>
                  <a:lnTo>
                    <a:pt x="338" y="46"/>
                  </a:lnTo>
                  <a:lnTo>
                    <a:pt x="448" y="21"/>
                  </a:lnTo>
                  <a:lnTo>
                    <a:pt x="551" y="3"/>
                  </a:lnTo>
                  <a:lnTo>
                    <a:pt x="602" y="0"/>
                  </a:lnTo>
                  <a:lnTo>
                    <a:pt x="653" y="0"/>
                  </a:lnTo>
                  <a:lnTo>
                    <a:pt x="697" y="3"/>
                  </a:lnTo>
                  <a:lnTo>
                    <a:pt x="734" y="14"/>
                  </a:lnTo>
                  <a:lnTo>
                    <a:pt x="771" y="32"/>
                  </a:lnTo>
                  <a:lnTo>
                    <a:pt x="808" y="54"/>
                  </a:lnTo>
                  <a:lnTo>
                    <a:pt x="844" y="82"/>
                  </a:lnTo>
                  <a:lnTo>
                    <a:pt x="881" y="118"/>
                  </a:lnTo>
                  <a:lnTo>
                    <a:pt x="918" y="154"/>
                  </a:lnTo>
                  <a:lnTo>
                    <a:pt x="955" y="193"/>
                  </a:lnTo>
                  <a:lnTo>
                    <a:pt x="1013" y="279"/>
                  </a:lnTo>
                  <a:lnTo>
                    <a:pt x="1072" y="369"/>
                  </a:lnTo>
                  <a:lnTo>
                    <a:pt x="1131" y="451"/>
                  </a:lnTo>
                  <a:lnTo>
                    <a:pt x="1153" y="490"/>
                  </a:lnTo>
                  <a:lnTo>
                    <a:pt x="1175" y="526"/>
                  </a:lnTo>
                  <a:lnTo>
                    <a:pt x="1197" y="555"/>
                  </a:lnTo>
                  <a:lnTo>
                    <a:pt x="1219" y="5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2884320"/>
              <a:ext cx="1073160" cy="1729080"/>
            </a:xfrm>
            <a:custGeom>
              <a:avLst/>
              <a:gdLst/>
              <a:ahLst/>
              <a:rect l="l" t="t" r="r" b="b"/>
              <a:pathLst>
                <a:path w="676" h="1089">
                  <a:moveTo>
                    <a:pt x="0" y="0"/>
                  </a:moveTo>
                  <a:lnTo>
                    <a:pt x="27" y="33"/>
                  </a:lnTo>
                  <a:lnTo>
                    <a:pt x="59" y="79"/>
                  </a:lnTo>
                  <a:lnTo>
                    <a:pt x="105" y="135"/>
                  </a:lnTo>
                  <a:lnTo>
                    <a:pt x="151" y="196"/>
                  </a:lnTo>
                  <a:lnTo>
                    <a:pt x="256" y="321"/>
                  </a:lnTo>
                  <a:lnTo>
                    <a:pt x="302" y="382"/>
                  </a:lnTo>
                  <a:lnTo>
                    <a:pt x="341" y="437"/>
                  </a:lnTo>
                  <a:lnTo>
                    <a:pt x="406" y="540"/>
                  </a:lnTo>
                  <a:lnTo>
                    <a:pt x="472" y="632"/>
                  </a:lnTo>
                  <a:lnTo>
                    <a:pt x="531" y="725"/>
                  </a:lnTo>
                  <a:lnTo>
                    <a:pt x="577" y="809"/>
                  </a:lnTo>
                  <a:lnTo>
                    <a:pt x="616" y="893"/>
                  </a:lnTo>
                  <a:lnTo>
                    <a:pt x="642" y="972"/>
                  </a:lnTo>
                  <a:lnTo>
                    <a:pt x="662" y="1037"/>
                  </a:lnTo>
                  <a:lnTo>
                    <a:pt x="668" y="1065"/>
                  </a:lnTo>
                  <a:lnTo>
                    <a:pt x="675" y="108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457200" y="1981080"/>
            <a:ext cx="1397160" cy="181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981080"/>
                      <a:ext cx="1397160" cy="18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71280" y="1366920"/>
              <a:ext cx="237204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Warranty</a:t>
              </a:r>
              <a:br>
                <a:rPr sz="1600"/>
              </a:br>
              <a:r>
                <a:rPr b="1" lang="en-US" sz="2400" spc="-1" strike="noStrike">
                  <a:solidFill>
                    <a:srgbClr val="fafd00"/>
                  </a:solidFill>
                  <a:latin typeface="Swis721 Blk BT"/>
                </a:rPr>
                <a:t>–</a:t>
              </a: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Strict Liability</a:t>
              </a:r>
              <a:r>
                <a:rPr b="1" lang="en-US" sz="2400" spc="-1" strike="noStrike">
                  <a:solidFill>
                    <a:srgbClr val="fafd00"/>
                  </a:solidFill>
                  <a:latin typeface="Swis721 Blk BT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6858000" y="2133720"/>
            <a:ext cx="1994040" cy="106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133720"/>
                      <a:ext cx="1994040" cy="10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6548400" y="1519200"/>
              <a:ext cx="237168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Profess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Neglig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3809880" y="5029200"/>
            <a:ext cx="1841760" cy="988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5029200"/>
                      <a:ext cx="1841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2" name=""/>
          <p:cNvGrpSpPr/>
          <p:nvPr/>
        </p:nvGrpSpPr>
        <p:grpSpPr>
          <a:xfrm>
            <a:off x="228600" y="228600"/>
            <a:ext cx="1219320" cy="1066680"/>
            <a:chOff x="228600" y="228600"/>
            <a:chExt cx="1219320" cy="1066680"/>
          </a:xfrm>
        </p:grpSpPr>
        <p:sp>
          <p:nvSpPr>
            <p:cNvPr id="193" name=""/>
            <p:cNvSpPr/>
            <p:nvPr/>
          </p:nvSpPr>
          <p:spPr>
            <a:xfrm>
              <a:off x="228600" y="228600"/>
              <a:ext cx="1219320" cy="10666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519120" y="228600"/>
              <a:ext cx="719280" cy="10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ahoma"/>
              </a:rPr>
              <a:t>Who Pays for Defective Design?</a:t>
            </a:r>
            <a:br>
              <a:rPr sz="32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ahoma"/>
              </a:rPr>
              <a:t>Build to Design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277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Cloud"/>
          <p:cNvSpPr/>
          <p:nvPr/>
        </p:nvSpPr>
        <p:spPr>
          <a:xfrm>
            <a:off x="4572000" y="2362320"/>
            <a:ext cx="3352680" cy="137160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47840" y="2514600"/>
            <a:ext cx="271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ations of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n Capit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&amp;O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kslogo_color" descr=""/>
          <p:cNvPicPr/>
          <p:nvPr/>
        </p:nvPicPr>
        <p:blipFill>
          <a:blip r:embed="rId8"/>
          <a:stretch/>
        </p:blipFill>
        <p:spPr>
          <a:xfrm>
            <a:off x="7848720" y="6351480"/>
            <a:ext cx="12952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Other Issues Affectin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Designer Liability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tract Limitations on Liabilit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&amp;O coverag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low-down liability to consultant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actical considerations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in capitalization &amp;/or limited E&amp;O coverag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wner’s deeper pocket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42aa1"/>
            </a:gs>
            <a:gs pos="50000">
              <a:srgbClr val="063de8"/>
            </a:gs>
            <a:gs pos="100000">
              <a:srgbClr val="042a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71280" y="1366920"/>
            <a:ext cx="8848800" cy="4857840"/>
            <a:chOff x="71280" y="1366920"/>
            <a:chExt cx="8848800" cy="4857840"/>
          </a:xfrm>
        </p:grpSpPr>
        <p:grpSp>
          <p:nvGrpSpPr>
            <p:cNvPr id="203" name=""/>
            <p:cNvGrpSpPr/>
            <p:nvPr/>
          </p:nvGrpSpPr>
          <p:grpSpPr>
            <a:xfrm>
              <a:off x="3352680" y="1752120"/>
              <a:ext cx="2895840" cy="2133720"/>
              <a:chOff x="3352680" y="1752120"/>
              <a:chExt cx="2895840" cy="2133720"/>
            </a:xfrm>
          </p:grpSpPr>
          <p:sp>
            <p:nvSpPr>
              <p:cNvPr id="204" name=""/>
              <p:cNvSpPr/>
              <p:nvPr/>
            </p:nvSpPr>
            <p:spPr>
              <a:xfrm rot="10800000">
                <a:off x="3352680" y="1751760"/>
                <a:ext cx="2895840" cy="2133720"/>
              </a:xfrm>
              <a:prstGeom prst="triangle">
                <a:avLst>
                  <a:gd name="adj" fmla="val 5112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52920" y="1824120"/>
                <a:ext cx="2219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The Liability Ga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81520" y="2509920"/>
                <a:ext cx="1762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wis721 Blk BT"/>
                  </a:rPr>
                  <a:t>OW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326280" y="3583080"/>
              <a:ext cx="1825560" cy="39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wis721 Blk BT"/>
                </a:rPr>
                <a:t>GEOT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640480" y="4649760"/>
              <a:ext cx="3273480" cy="1575000"/>
              <a:chOff x="5640480" y="4649760"/>
              <a:chExt cx="3273480" cy="1575000"/>
            </a:xfrm>
          </p:grpSpPr>
          <p:sp>
            <p:nvSpPr>
              <p:cNvPr id="209" name=""/>
              <p:cNvSpPr/>
              <p:nvPr/>
            </p:nvSpPr>
            <p:spPr>
              <a:xfrm>
                <a:off x="6249960" y="4649760"/>
                <a:ext cx="200520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DESIGN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40480" y="5830920"/>
                <a:ext cx="327348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SUBCONSULT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44040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7536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51032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7868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06360" y="4649760"/>
              <a:ext cx="3349800" cy="1552680"/>
              <a:chOff x="306360" y="4649760"/>
              <a:chExt cx="3349800" cy="1552680"/>
            </a:xfrm>
          </p:grpSpPr>
          <p:sp>
            <p:nvSpPr>
              <p:cNvPr id="216" name=""/>
              <p:cNvSpPr/>
              <p:nvPr/>
            </p:nvSpPr>
            <p:spPr>
              <a:xfrm>
                <a:off x="306360" y="5808600"/>
                <a:ext cx="334980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SUBCONTRACT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112536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167328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22084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70036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7480" y="4649760"/>
                <a:ext cx="239076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CONTRA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2008080" y="2671920"/>
              <a:ext cx="1890720" cy="1993680"/>
            </a:xfrm>
            <a:custGeom>
              <a:avLst/>
              <a:gdLst/>
              <a:ahLst/>
              <a:rect l="l" t="t" r="r" b="b"/>
              <a:pathLst>
                <a:path w="1191" h="1256">
                  <a:moveTo>
                    <a:pt x="0" y="1255"/>
                  </a:moveTo>
                  <a:lnTo>
                    <a:pt x="4" y="1222"/>
                  </a:lnTo>
                  <a:lnTo>
                    <a:pt x="4" y="1175"/>
                  </a:lnTo>
                  <a:lnTo>
                    <a:pt x="8" y="1123"/>
                  </a:lnTo>
                  <a:lnTo>
                    <a:pt x="8" y="1067"/>
                  </a:lnTo>
                  <a:lnTo>
                    <a:pt x="8" y="1001"/>
                  </a:lnTo>
                  <a:lnTo>
                    <a:pt x="8" y="935"/>
                  </a:lnTo>
                  <a:lnTo>
                    <a:pt x="12" y="790"/>
                  </a:lnTo>
                  <a:lnTo>
                    <a:pt x="23" y="644"/>
                  </a:lnTo>
                  <a:lnTo>
                    <a:pt x="35" y="573"/>
                  </a:lnTo>
                  <a:lnTo>
                    <a:pt x="51" y="508"/>
                  </a:lnTo>
                  <a:lnTo>
                    <a:pt x="67" y="442"/>
                  </a:lnTo>
                  <a:lnTo>
                    <a:pt x="90" y="385"/>
                  </a:lnTo>
                  <a:lnTo>
                    <a:pt x="118" y="334"/>
                  </a:lnTo>
                  <a:lnTo>
                    <a:pt x="153" y="291"/>
                  </a:lnTo>
                  <a:lnTo>
                    <a:pt x="196" y="254"/>
                  </a:lnTo>
                  <a:lnTo>
                    <a:pt x="243" y="221"/>
                  </a:lnTo>
                  <a:lnTo>
                    <a:pt x="302" y="193"/>
                  </a:lnTo>
                  <a:lnTo>
                    <a:pt x="369" y="164"/>
                  </a:lnTo>
                  <a:lnTo>
                    <a:pt x="436" y="141"/>
                  </a:lnTo>
                  <a:lnTo>
                    <a:pt x="510" y="122"/>
                  </a:lnTo>
                  <a:lnTo>
                    <a:pt x="664" y="89"/>
                  </a:lnTo>
                  <a:lnTo>
                    <a:pt x="821" y="61"/>
                  </a:lnTo>
                  <a:lnTo>
                    <a:pt x="895" y="52"/>
                  </a:lnTo>
                  <a:lnTo>
                    <a:pt x="966" y="42"/>
                  </a:lnTo>
                  <a:lnTo>
                    <a:pt x="1033" y="33"/>
                  </a:lnTo>
                  <a:lnTo>
                    <a:pt x="1092" y="23"/>
                  </a:lnTo>
                  <a:lnTo>
                    <a:pt x="1147" y="9"/>
                  </a:lnTo>
                  <a:lnTo>
                    <a:pt x="119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53200" y="2631960"/>
              <a:ext cx="1936440" cy="922320"/>
            </a:xfrm>
            <a:custGeom>
              <a:avLst/>
              <a:gdLst/>
              <a:ahLst/>
              <a:rect l="l" t="t" r="r" b="b"/>
              <a:pathLst>
                <a:path w="1220" h="581">
                  <a:moveTo>
                    <a:pt x="0" y="150"/>
                  </a:moveTo>
                  <a:lnTo>
                    <a:pt x="29" y="143"/>
                  </a:lnTo>
                  <a:lnTo>
                    <a:pt x="58" y="136"/>
                  </a:lnTo>
                  <a:lnTo>
                    <a:pt x="139" y="111"/>
                  </a:lnTo>
                  <a:lnTo>
                    <a:pt x="235" y="79"/>
                  </a:lnTo>
                  <a:lnTo>
                    <a:pt x="338" y="46"/>
                  </a:lnTo>
                  <a:lnTo>
                    <a:pt x="448" y="21"/>
                  </a:lnTo>
                  <a:lnTo>
                    <a:pt x="551" y="3"/>
                  </a:lnTo>
                  <a:lnTo>
                    <a:pt x="602" y="0"/>
                  </a:lnTo>
                  <a:lnTo>
                    <a:pt x="653" y="0"/>
                  </a:lnTo>
                  <a:lnTo>
                    <a:pt x="697" y="3"/>
                  </a:lnTo>
                  <a:lnTo>
                    <a:pt x="734" y="14"/>
                  </a:lnTo>
                  <a:lnTo>
                    <a:pt x="771" y="32"/>
                  </a:lnTo>
                  <a:lnTo>
                    <a:pt x="808" y="54"/>
                  </a:lnTo>
                  <a:lnTo>
                    <a:pt x="844" y="82"/>
                  </a:lnTo>
                  <a:lnTo>
                    <a:pt x="881" y="118"/>
                  </a:lnTo>
                  <a:lnTo>
                    <a:pt x="918" y="154"/>
                  </a:lnTo>
                  <a:lnTo>
                    <a:pt x="955" y="193"/>
                  </a:lnTo>
                  <a:lnTo>
                    <a:pt x="1013" y="279"/>
                  </a:lnTo>
                  <a:lnTo>
                    <a:pt x="1072" y="369"/>
                  </a:lnTo>
                  <a:lnTo>
                    <a:pt x="1131" y="451"/>
                  </a:lnTo>
                  <a:lnTo>
                    <a:pt x="1153" y="490"/>
                  </a:lnTo>
                  <a:lnTo>
                    <a:pt x="1175" y="526"/>
                  </a:lnTo>
                  <a:lnTo>
                    <a:pt x="1197" y="555"/>
                  </a:lnTo>
                  <a:lnTo>
                    <a:pt x="1219" y="5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25920" y="2884320"/>
              <a:ext cx="1073160" cy="1729080"/>
            </a:xfrm>
            <a:custGeom>
              <a:avLst/>
              <a:gdLst/>
              <a:ahLst/>
              <a:rect l="l" t="t" r="r" b="b"/>
              <a:pathLst>
                <a:path w="676" h="1089">
                  <a:moveTo>
                    <a:pt x="0" y="0"/>
                  </a:moveTo>
                  <a:lnTo>
                    <a:pt x="27" y="33"/>
                  </a:lnTo>
                  <a:lnTo>
                    <a:pt x="59" y="79"/>
                  </a:lnTo>
                  <a:lnTo>
                    <a:pt x="105" y="135"/>
                  </a:lnTo>
                  <a:lnTo>
                    <a:pt x="151" y="196"/>
                  </a:lnTo>
                  <a:lnTo>
                    <a:pt x="256" y="321"/>
                  </a:lnTo>
                  <a:lnTo>
                    <a:pt x="302" y="382"/>
                  </a:lnTo>
                  <a:lnTo>
                    <a:pt x="341" y="437"/>
                  </a:lnTo>
                  <a:lnTo>
                    <a:pt x="406" y="540"/>
                  </a:lnTo>
                  <a:lnTo>
                    <a:pt x="472" y="632"/>
                  </a:lnTo>
                  <a:lnTo>
                    <a:pt x="531" y="725"/>
                  </a:lnTo>
                  <a:lnTo>
                    <a:pt x="577" y="809"/>
                  </a:lnTo>
                  <a:lnTo>
                    <a:pt x="616" y="893"/>
                  </a:lnTo>
                  <a:lnTo>
                    <a:pt x="642" y="972"/>
                  </a:lnTo>
                  <a:lnTo>
                    <a:pt x="662" y="1037"/>
                  </a:lnTo>
                  <a:lnTo>
                    <a:pt x="668" y="1065"/>
                  </a:lnTo>
                  <a:lnTo>
                    <a:pt x="675" y="108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"/>
            <p:cNvGraphicFramePr/>
            <p:nvPr/>
          </p:nvGraphicFramePr>
          <p:xfrm>
            <a:off x="457200" y="1981080"/>
            <a:ext cx="1397160" cy="181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981080"/>
                      <a:ext cx="1397160" cy="18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71280" y="1366920"/>
              <a:ext cx="237204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Warranty</a:t>
              </a:r>
              <a:br>
                <a:rPr sz="1600"/>
              </a:br>
              <a:r>
                <a:rPr b="1" lang="en-US" sz="2400" spc="-1" strike="noStrike">
                  <a:solidFill>
                    <a:srgbClr val="fafd00"/>
                  </a:solidFill>
                  <a:latin typeface="Swis721 Blk BT"/>
                </a:rPr>
                <a:t>–</a:t>
              </a: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Strict Liability</a:t>
              </a:r>
              <a:r>
                <a:rPr b="1" lang="en-US" sz="2400" spc="-1" strike="noStrike">
                  <a:solidFill>
                    <a:srgbClr val="fafd00"/>
                  </a:solidFill>
                  <a:latin typeface="Swis721 Blk BT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6858000" y="2133720"/>
            <a:ext cx="1994040" cy="106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133720"/>
                      <a:ext cx="1994040" cy="10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"/>
            <p:cNvSpPr/>
            <p:nvPr/>
          </p:nvSpPr>
          <p:spPr>
            <a:xfrm>
              <a:off x="6548400" y="1519200"/>
              <a:ext cx="237168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Profess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Neglig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3809880" y="5029200"/>
            <a:ext cx="1841760" cy="988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5029200"/>
                      <a:ext cx="1841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Cloud"/>
          <p:cNvSpPr/>
          <p:nvPr/>
        </p:nvSpPr>
        <p:spPr>
          <a:xfrm>
            <a:off x="2971800" y="3733920"/>
            <a:ext cx="3505320" cy="12189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28600" y="228600"/>
            <a:ext cx="1219320" cy="1066680"/>
            <a:chOff x="228600" y="228600"/>
            <a:chExt cx="1219320" cy="1066680"/>
          </a:xfrm>
        </p:grpSpPr>
        <p:sp>
          <p:nvSpPr>
            <p:cNvPr id="235" name=""/>
            <p:cNvSpPr/>
            <p:nvPr/>
          </p:nvSpPr>
          <p:spPr>
            <a:xfrm>
              <a:off x="228600" y="228600"/>
              <a:ext cx="1219320" cy="10666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519120" y="228600"/>
              <a:ext cx="719280" cy="10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ahoma"/>
              </a:rPr>
              <a:t>Who Pays for Defective Design?</a:t>
            </a:r>
            <a:br>
              <a:rPr sz="32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ahoma"/>
              </a:rPr>
              <a:t>Build to Design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277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39625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nomic Loss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Party Benefici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kslogo_color" descr=""/>
          <p:cNvPicPr/>
          <p:nvPr/>
        </p:nvPicPr>
        <p:blipFill>
          <a:blip r:embed="rId8"/>
          <a:stretch/>
        </p:blipFill>
        <p:spPr>
          <a:xfrm>
            <a:off x="7848720" y="6351480"/>
            <a:ext cx="12952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he Designer’s Direct Liabilit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o the Contractor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tract theory; third part beneficiar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enerally barred by the design contract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till judged under professional negligenc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ort theory: Negligenc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ofessional negligence standard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conomic Loss Rule, where applicable, may bar negligence claims for economic damages (no property damage or personal injury) – Always evolving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raud/ Misrepresentation – Intentional torts, not Negligence, and not E&amp;O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Bridging the Liability Gap for Desig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Design-Build?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erformance guarantees are the best way to shift design liabilit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ost standard design-build still maintain professional negligence as the standard for design liabilit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ther considerations affecting design liabilit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Limitations Imposed on Design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uperior Knowledg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rtial Design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erms of Solicitation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formation Provided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erms of the Contract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Risk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Management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In Tunnel Construction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35480" cy="4392360"/>
          </a:xfrm>
          <a:prstGeom prst="rect">
            <a:avLst/>
          </a:prstGeom>
          <a:ln w="57240">
            <a:solidFill>
              <a:srgbClr val="00279f"/>
            </a:solidFill>
            <a:miter/>
          </a:ln>
        </p:spPr>
      </p:pic>
    </p:spTree>
  </p:cSld>
  <p:transition>
    <p:pull dir="rd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Underground Constructi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A Risky Busines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ubsurface conditions cannot be predicted precisely prior to bidding and construc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geology largely dictates means &amp; methods, costs and dur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Unlike above-ground construction, tunnels never “get out of the ground” 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inear – everything is critical; no work aroun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buClr>
                <a:srgbClr val="fafd00"/>
              </a:buClr>
              <a:buSzPct val="64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s much as 2/3 to 3/4 construction cost in “means and methods”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buClr>
                <a:srgbClr val="fafd00"/>
              </a:buClr>
              <a:buSzPct val="64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wners typically stay out of contractor’s “means and methods”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Procedures For Minimizing And Resolving Claims And Dispute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Differing site conditions (DSC) provision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Geotechnical Baseline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Escrow Bid Documents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Disputes Review Board (DRB)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95880" y="3013200"/>
            <a:ext cx="2819520" cy="2168280"/>
          </a:xfrm>
          <a:prstGeom prst="rect">
            <a:avLst/>
          </a:prstGeom>
          <a:ln w="38160">
            <a:solidFill>
              <a:srgbClr val="00279f"/>
            </a:solidFill>
            <a:miter/>
          </a:ln>
        </p:spPr>
      </p:pic>
    </p:spTree>
  </p:cSld>
  <p:transition>
    <p:pull dir="rd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onstruction Law: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Managing Risks and Dealing With Dispute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Who pays for defective design?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pecial risks of underground construction/ tunneling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Dispute Review Board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Risks of multi-prime contracting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ermination for default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Differing Site Conditions Provision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Indicated conditions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Actual conditions encountered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Material” difference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Impact to contractor’s operations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Causation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Damages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2362320"/>
            <a:ext cx="609480" cy="0"/>
          </a:xfrm>
          <a:prstGeom prst="line">
            <a:avLst/>
          </a:prstGeom>
          <a:ln w="7632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Recommendations For Providing Subsurface Information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ke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relevant information availabl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void disclaimer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eotechnical Data Report (“GDR”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eotechnical Interpretive Report (“GIR”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eotechnical Design Summary Report (“GDSR”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eotechnical Baseline Report (“GBR”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3505320"/>
            <a:ext cx="609480" cy="0"/>
          </a:xfrm>
          <a:prstGeom prst="line">
            <a:avLst/>
          </a:prstGeom>
          <a:ln w="7632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5410080"/>
            <a:ext cx="609840" cy="0"/>
          </a:xfrm>
          <a:prstGeom prst="line">
            <a:avLst/>
          </a:prstGeom>
          <a:ln w="7632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eotechnical Data Repor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482920"/>
            <a:ext cx="693432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Just the facts, Ma’am”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What was done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ow it was done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What was learned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eotechnical Baseline Repor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vides data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interpret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ts out designer’s anticipated subsurface conditions and impact on design and construction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esents advantages and disadvantages of various construction method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tains “baseline” statements – single, contractually-established interpretation of condition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isk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baseline on contractor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isk &gt; baseline on owner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Geotechnical Baselin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Are They Working?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Touted benefit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ntractually (and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clearly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) establishes the “anticipated” conditions for DSC purpose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sures a level playing field for bidder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llows owner flexibility with risk assumption and financial goal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llows owner greater influence on means and method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Issue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lianc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ateriality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ntractual mechanisms for effective use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ESCROW BID DOCUMENT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23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Purpose: Addresses reliance &amp; damage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Ownership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Lessons learned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early identify key bid assumption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ighlight any variance from baselin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ill-in-the-blank” for key variables in change orders and claims (advance rate, penetration rate, utilization, cutter usage, etc.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553080" y="5486400"/>
            <a:ext cx="2362320" cy="122400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810240" cy="1638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isputes Review Board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al time” dispute resolution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incipals Have Less Control: Dispute Is “Judged”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echnical expertise vs. disputes resolution skill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ncerns regarding neutrality, claimant’s forum and “splitting the baby”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lection process: Get it established early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Keeping the DRB involved and informed on the project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Level of formality and procedur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cope of DRB’s authority: technical vs. legal issue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810240" cy="1638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isputes Review Board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30556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mpact of DRB decision?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on-Binding?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dmissible in Court?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ntrolling pending outcome of litigation – cash flow?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inding arbitration?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Use In Conjunction With Medi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Multi-Prime Contracting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he Problem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wo Scenarios: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rue Multi-prime:contract Direct With Trade Contractors, Typically Sub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ultiple GC’s on Single Site And/or With Interdependent Scopes of Work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Most of the Legal Principles and Practical Considerations Are the Same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546960" y="77760"/>
            <a:ext cx="2122200" cy="2116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2438640" cy="1676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4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Multi-Prime Contracting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he Problem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reates a Coordination Vacuum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here The GC Once Stoo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wner Now Assumes Implied Duty to Coordinat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ost Owners Are Not Staffed to Provide Required Level of Project Managemen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wner Can Engage Outside Expertis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ill an Increased Risk of Performance Problems and Claim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546960" y="77760"/>
            <a:ext cx="2122200" cy="2116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04920" y="685800"/>
            <a:ext cx="4724280" cy="4876920"/>
            <a:chOff x="304920" y="685800"/>
            <a:chExt cx="4724280" cy="4876920"/>
          </a:xfrm>
        </p:grpSpPr>
        <p:sp>
          <p:nvSpPr>
            <p:cNvPr id="53" name=""/>
            <p:cNvSpPr/>
            <p:nvPr/>
          </p:nvSpPr>
          <p:spPr>
            <a:xfrm>
              <a:off x="304920" y="685800"/>
              <a:ext cx="4724280" cy="4876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430280" y="685800"/>
              <a:ext cx="2825640" cy="464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3733920" y="304920"/>
            <a:ext cx="5410080" cy="5562360"/>
          </a:xfrm>
          <a:prstGeom prst="irregularSeal1">
            <a:avLst/>
          </a:prstGeom>
          <a:solidFill>
            <a:srgbClr val="00279f"/>
          </a:solidFill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38480" y="21333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Who Pays for Defective Design?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7" name="kslogo_color" descr=""/>
          <p:cNvPicPr/>
          <p:nvPr/>
        </p:nvPicPr>
        <p:blipFill>
          <a:blip r:embed="rId2"/>
          <a:stretch/>
        </p:blipFill>
        <p:spPr>
          <a:xfrm>
            <a:off x="7848720" y="6351480"/>
            <a:ext cx="12952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3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Multi-Prime Contracting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he Owners’ Response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Disclaim The Implied Duty To Coordinate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Require Contractors To Coordinate</a:t>
            </a: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- One And/or All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Make the Contractors Third Party Beneficiaries of Each Others Contracts &amp; Bonds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Require Contractors To Sue Each Other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Hold Harmless and Indemnify the Owner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546960" y="77760"/>
            <a:ext cx="2122200" cy="21160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Multi-Prime Contracting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New Problem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rade Contractors Lack Power to Enforce Coordination: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spect/Reject...Purse Strings...T4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gency CM (Owner’s Agent) Not The Same as GC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creased Prospect of Litigation &amp; Dispute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wner Disclaimers Frequently Enforce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egardless of Legal Result, What is The Impact On The Project?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546960" y="77760"/>
            <a:ext cx="2122200" cy="2116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1960" y="990720"/>
            <a:ext cx="775800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TERMINATION FOR DEFAULT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he Capital Punishment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of Construction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86000" y="3898440"/>
            <a:ext cx="6372000" cy="17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58776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Termination For Default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Last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Resor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Not Favored By The Law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erminate &amp; Your Actions Will Be Strictly Reviewed &amp; Second- Guesse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Acting Party Has The Burden Of Proof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tential  Exposure Is Can Be Substantial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re Will Be A Lawsuit &amp; Counterclaim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20638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he Termination Clause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“The Prenuptial Agreement” 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lexibilit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ermination For Convenienc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structive Termin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ases For Termination - Not Limite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cedures: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Notice, Cure Period, Meetings, Certification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ubcontracts: Assignments &amp; Incorpor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ights &amp; Obligations Upon Termin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95880" y="1752480"/>
            <a:ext cx="25974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rmination For Defaul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Legal Issue: 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an You Terminate?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spcBef>
                <a:spcPts val="11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actical Issue: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Should You Terminate?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4447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ermination For Defaul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rounds For Defaul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ailure Or Refusal To Prosecute The Work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ailure To Complete On Tim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ailure To Pay Subs &amp; Supplier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bandonmen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ailure To Cure Defaul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T MUST BE A MATERIAL BREACH!!! 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3960" y="4834080"/>
            <a:ext cx="689040" cy="647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6629400" y="30481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4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ermination For Default</a:t>
            </a:r>
            <a:br>
              <a:rPr sz="36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efenses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Excusable Delay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Impossibility/ Defective Specification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ardinal Change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Lack Of  Payment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Waiver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Procedural defect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01680" y="3505320"/>
            <a:ext cx="689040" cy="5331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01680" y="4038480"/>
            <a:ext cx="689040" cy="64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688680" cy="647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6248520" y="3429000"/>
            <a:ext cx="2520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6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Should You Terminate?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ost Of Replacement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ime Impact On Project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Impact To Other Contractor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Long Lead Items 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Favorable PO’s &amp; Subcontract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Warranty &amp; Long Term  Liability Issue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477120" y="1905120"/>
            <a:ext cx="23684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Termination for Default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ealing with The Surety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w Of Suretyship, Not Insuranc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ermination Should Not be The First Notic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urety’s Option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mplet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y To Complete Up To Penal Sum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fuse To Complet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itigation/ Arbitration/ Bankruptc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200400"/>
            <a:ext cx="229248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42aa1"/>
            </a:gs>
            <a:gs pos="50000">
              <a:srgbClr val="063de8"/>
            </a:gs>
            <a:gs pos="100000">
              <a:srgbClr val="042a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71280" y="1366920"/>
            <a:ext cx="8848800" cy="4857840"/>
            <a:chOff x="71280" y="1366920"/>
            <a:chExt cx="8848800" cy="4857840"/>
          </a:xfrm>
        </p:grpSpPr>
        <p:grpSp>
          <p:nvGrpSpPr>
            <p:cNvPr id="59" name=""/>
            <p:cNvGrpSpPr/>
            <p:nvPr/>
          </p:nvGrpSpPr>
          <p:grpSpPr>
            <a:xfrm>
              <a:off x="3352680" y="1752120"/>
              <a:ext cx="2895840" cy="2133720"/>
              <a:chOff x="3352680" y="1752120"/>
              <a:chExt cx="2895840" cy="2133720"/>
            </a:xfrm>
          </p:grpSpPr>
          <p:sp>
            <p:nvSpPr>
              <p:cNvPr id="60" name=""/>
              <p:cNvSpPr/>
              <p:nvPr/>
            </p:nvSpPr>
            <p:spPr>
              <a:xfrm rot="10800000">
                <a:off x="3352680" y="1751760"/>
                <a:ext cx="2895840" cy="2133720"/>
              </a:xfrm>
              <a:prstGeom prst="triangle">
                <a:avLst>
                  <a:gd name="adj" fmla="val 5112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52920" y="1824120"/>
                <a:ext cx="2219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The Liability Ga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81520" y="2509920"/>
                <a:ext cx="1762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wis721 Blk BT"/>
                  </a:rPr>
                  <a:t>OW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6326280" y="3583080"/>
              <a:ext cx="1825560" cy="39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wis721 Blk BT"/>
                </a:rPr>
                <a:t>GEOT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640480" y="4649760"/>
              <a:ext cx="3273480" cy="1575000"/>
              <a:chOff x="5640480" y="4649760"/>
              <a:chExt cx="3273480" cy="1575000"/>
            </a:xfrm>
          </p:grpSpPr>
          <p:sp>
            <p:nvSpPr>
              <p:cNvPr id="65" name=""/>
              <p:cNvSpPr/>
              <p:nvPr/>
            </p:nvSpPr>
            <p:spPr>
              <a:xfrm>
                <a:off x="6249960" y="4649760"/>
                <a:ext cx="200520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DESIGN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40480" y="5830920"/>
                <a:ext cx="327348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SUBCONSULT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44040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97536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1032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7868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306360" y="4649760"/>
              <a:ext cx="3349800" cy="1552680"/>
              <a:chOff x="306360" y="4649760"/>
              <a:chExt cx="3349800" cy="1552680"/>
            </a:xfrm>
          </p:grpSpPr>
          <p:sp>
            <p:nvSpPr>
              <p:cNvPr id="72" name=""/>
              <p:cNvSpPr/>
              <p:nvPr/>
            </p:nvSpPr>
            <p:spPr>
              <a:xfrm>
                <a:off x="306360" y="5808600"/>
                <a:ext cx="334980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SUBCONTRACT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12536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67328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222084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270036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17480" y="4649760"/>
                <a:ext cx="239076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CONTRA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2008080" y="2671920"/>
              <a:ext cx="1890720" cy="1993680"/>
            </a:xfrm>
            <a:custGeom>
              <a:avLst/>
              <a:gdLst/>
              <a:ahLst/>
              <a:rect l="l" t="t" r="r" b="b"/>
              <a:pathLst>
                <a:path w="1191" h="1256">
                  <a:moveTo>
                    <a:pt x="0" y="1255"/>
                  </a:moveTo>
                  <a:lnTo>
                    <a:pt x="4" y="1222"/>
                  </a:lnTo>
                  <a:lnTo>
                    <a:pt x="4" y="1175"/>
                  </a:lnTo>
                  <a:lnTo>
                    <a:pt x="8" y="1123"/>
                  </a:lnTo>
                  <a:lnTo>
                    <a:pt x="8" y="1067"/>
                  </a:lnTo>
                  <a:lnTo>
                    <a:pt x="8" y="1001"/>
                  </a:lnTo>
                  <a:lnTo>
                    <a:pt x="8" y="935"/>
                  </a:lnTo>
                  <a:lnTo>
                    <a:pt x="12" y="790"/>
                  </a:lnTo>
                  <a:lnTo>
                    <a:pt x="23" y="644"/>
                  </a:lnTo>
                  <a:lnTo>
                    <a:pt x="35" y="573"/>
                  </a:lnTo>
                  <a:lnTo>
                    <a:pt x="51" y="508"/>
                  </a:lnTo>
                  <a:lnTo>
                    <a:pt x="67" y="442"/>
                  </a:lnTo>
                  <a:lnTo>
                    <a:pt x="90" y="385"/>
                  </a:lnTo>
                  <a:lnTo>
                    <a:pt x="118" y="334"/>
                  </a:lnTo>
                  <a:lnTo>
                    <a:pt x="153" y="291"/>
                  </a:lnTo>
                  <a:lnTo>
                    <a:pt x="196" y="254"/>
                  </a:lnTo>
                  <a:lnTo>
                    <a:pt x="243" y="221"/>
                  </a:lnTo>
                  <a:lnTo>
                    <a:pt x="302" y="193"/>
                  </a:lnTo>
                  <a:lnTo>
                    <a:pt x="369" y="164"/>
                  </a:lnTo>
                  <a:lnTo>
                    <a:pt x="436" y="141"/>
                  </a:lnTo>
                  <a:lnTo>
                    <a:pt x="510" y="122"/>
                  </a:lnTo>
                  <a:lnTo>
                    <a:pt x="664" y="89"/>
                  </a:lnTo>
                  <a:lnTo>
                    <a:pt x="821" y="61"/>
                  </a:lnTo>
                  <a:lnTo>
                    <a:pt x="895" y="52"/>
                  </a:lnTo>
                  <a:lnTo>
                    <a:pt x="966" y="42"/>
                  </a:lnTo>
                  <a:lnTo>
                    <a:pt x="1033" y="33"/>
                  </a:lnTo>
                  <a:lnTo>
                    <a:pt x="1092" y="23"/>
                  </a:lnTo>
                  <a:lnTo>
                    <a:pt x="1147" y="9"/>
                  </a:lnTo>
                  <a:lnTo>
                    <a:pt x="119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53200" y="2631960"/>
              <a:ext cx="1936440" cy="922320"/>
            </a:xfrm>
            <a:custGeom>
              <a:avLst/>
              <a:gdLst/>
              <a:ahLst/>
              <a:rect l="l" t="t" r="r" b="b"/>
              <a:pathLst>
                <a:path w="1220" h="581">
                  <a:moveTo>
                    <a:pt x="0" y="150"/>
                  </a:moveTo>
                  <a:lnTo>
                    <a:pt x="29" y="143"/>
                  </a:lnTo>
                  <a:lnTo>
                    <a:pt x="58" y="136"/>
                  </a:lnTo>
                  <a:lnTo>
                    <a:pt x="139" y="111"/>
                  </a:lnTo>
                  <a:lnTo>
                    <a:pt x="235" y="79"/>
                  </a:lnTo>
                  <a:lnTo>
                    <a:pt x="338" y="46"/>
                  </a:lnTo>
                  <a:lnTo>
                    <a:pt x="448" y="21"/>
                  </a:lnTo>
                  <a:lnTo>
                    <a:pt x="551" y="3"/>
                  </a:lnTo>
                  <a:lnTo>
                    <a:pt x="602" y="0"/>
                  </a:lnTo>
                  <a:lnTo>
                    <a:pt x="653" y="0"/>
                  </a:lnTo>
                  <a:lnTo>
                    <a:pt x="697" y="3"/>
                  </a:lnTo>
                  <a:lnTo>
                    <a:pt x="734" y="14"/>
                  </a:lnTo>
                  <a:lnTo>
                    <a:pt x="771" y="32"/>
                  </a:lnTo>
                  <a:lnTo>
                    <a:pt x="808" y="54"/>
                  </a:lnTo>
                  <a:lnTo>
                    <a:pt x="844" y="82"/>
                  </a:lnTo>
                  <a:lnTo>
                    <a:pt x="881" y="118"/>
                  </a:lnTo>
                  <a:lnTo>
                    <a:pt x="918" y="154"/>
                  </a:lnTo>
                  <a:lnTo>
                    <a:pt x="955" y="193"/>
                  </a:lnTo>
                  <a:lnTo>
                    <a:pt x="1013" y="279"/>
                  </a:lnTo>
                  <a:lnTo>
                    <a:pt x="1072" y="369"/>
                  </a:lnTo>
                  <a:lnTo>
                    <a:pt x="1131" y="451"/>
                  </a:lnTo>
                  <a:lnTo>
                    <a:pt x="1153" y="490"/>
                  </a:lnTo>
                  <a:lnTo>
                    <a:pt x="1175" y="526"/>
                  </a:lnTo>
                  <a:lnTo>
                    <a:pt x="1197" y="555"/>
                  </a:lnTo>
                  <a:lnTo>
                    <a:pt x="1219" y="5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25920" y="2884320"/>
              <a:ext cx="1073160" cy="1729080"/>
            </a:xfrm>
            <a:custGeom>
              <a:avLst/>
              <a:gdLst/>
              <a:ahLst/>
              <a:rect l="l" t="t" r="r" b="b"/>
              <a:pathLst>
                <a:path w="676" h="1089">
                  <a:moveTo>
                    <a:pt x="0" y="0"/>
                  </a:moveTo>
                  <a:lnTo>
                    <a:pt x="27" y="33"/>
                  </a:lnTo>
                  <a:lnTo>
                    <a:pt x="59" y="79"/>
                  </a:lnTo>
                  <a:lnTo>
                    <a:pt x="105" y="135"/>
                  </a:lnTo>
                  <a:lnTo>
                    <a:pt x="151" y="196"/>
                  </a:lnTo>
                  <a:lnTo>
                    <a:pt x="256" y="321"/>
                  </a:lnTo>
                  <a:lnTo>
                    <a:pt x="302" y="382"/>
                  </a:lnTo>
                  <a:lnTo>
                    <a:pt x="341" y="437"/>
                  </a:lnTo>
                  <a:lnTo>
                    <a:pt x="406" y="540"/>
                  </a:lnTo>
                  <a:lnTo>
                    <a:pt x="472" y="632"/>
                  </a:lnTo>
                  <a:lnTo>
                    <a:pt x="531" y="725"/>
                  </a:lnTo>
                  <a:lnTo>
                    <a:pt x="577" y="809"/>
                  </a:lnTo>
                  <a:lnTo>
                    <a:pt x="616" y="893"/>
                  </a:lnTo>
                  <a:lnTo>
                    <a:pt x="642" y="972"/>
                  </a:lnTo>
                  <a:lnTo>
                    <a:pt x="662" y="1037"/>
                  </a:lnTo>
                  <a:lnTo>
                    <a:pt x="668" y="1065"/>
                  </a:lnTo>
                  <a:lnTo>
                    <a:pt x="675" y="108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457200" y="1981080"/>
            <a:ext cx="1397160" cy="181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981080"/>
                      <a:ext cx="1397160" cy="18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71280" y="1366920"/>
              <a:ext cx="237204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Warranty</a:t>
              </a:r>
              <a:br>
                <a:rPr sz="1600"/>
              </a:br>
              <a:r>
                <a:rPr b="1" lang="en-US" sz="2400" spc="-1" strike="noStrike">
                  <a:solidFill>
                    <a:srgbClr val="fafd00"/>
                  </a:solidFill>
                  <a:latin typeface="Swis721 Blk BT"/>
                </a:rPr>
                <a:t>–</a:t>
              </a: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Strict Liability</a:t>
              </a:r>
              <a:r>
                <a:rPr b="1" lang="en-US" sz="2400" spc="-1" strike="noStrike">
                  <a:solidFill>
                    <a:srgbClr val="fafd00"/>
                  </a:solidFill>
                  <a:latin typeface="Swis721 Blk BT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6858000" y="2133720"/>
            <a:ext cx="1994040" cy="106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133720"/>
                      <a:ext cx="1994040" cy="10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6548400" y="1519200"/>
              <a:ext cx="237168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Profess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Neglig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3809880" y="5029200"/>
            <a:ext cx="1841760" cy="988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5029200"/>
                      <a:ext cx="1841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" name=""/>
          <p:cNvGrpSpPr/>
          <p:nvPr/>
        </p:nvGrpSpPr>
        <p:grpSpPr>
          <a:xfrm>
            <a:off x="228600" y="228600"/>
            <a:ext cx="1219320" cy="1066680"/>
            <a:chOff x="228600" y="228600"/>
            <a:chExt cx="1219320" cy="1066680"/>
          </a:xfrm>
        </p:grpSpPr>
        <p:sp>
          <p:nvSpPr>
            <p:cNvPr id="90" name=""/>
            <p:cNvSpPr/>
            <p:nvPr/>
          </p:nvSpPr>
          <p:spPr>
            <a:xfrm>
              <a:off x="228600" y="228600"/>
              <a:ext cx="1219320" cy="10666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7"/>
            <a:stretch/>
          </p:blipFill>
          <p:spPr>
            <a:xfrm>
              <a:off x="519120" y="228600"/>
              <a:ext cx="719280" cy="10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ahoma"/>
              </a:rPr>
              <a:t>Who Pays for Defective Design?</a:t>
            </a:r>
            <a:br>
              <a:rPr sz="32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ahoma"/>
              </a:rPr>
              <a:t>Build to Design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77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62280" y="449568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rofessional Negli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876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kslogo_color" descr=""/>
          <p:cNvPicPr/>
          <p:nvPr/>
        </p:nvPicPr>
        <p:blipFill>
          <a:blip r:embed="rId8"/>
          <a:stretch/>
        </p:blipFill>
        <p:spPr>
          <a:xfrm>
            <a:off x="7848720" y="6351480"/>
            <a:ext cx="12952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roperly Implementing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he Termination For Defaul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lan To Complete, Not Plan To Terminat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xhaust All Other Option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sider: Facts, Contract, Bond, Applicable Law, &amp; Best interests Of The Projec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nswer: Can I / Should I terminate?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ive Ample Opportunity To Cur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rictly Adhere To Procedures …Plu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689040" cy="648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6781680" y="3809880"/>
            <a:ext cx="20638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4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procuremen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5960" y="190332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e reasonable: Not A Blank Check!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early Define Scope Of Work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dditional Scope: Separate Accounting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urvey Of Work In Plac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ocument Defective Work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arrantie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ssignment Of PO's &amp; Subcontract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New Bond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966080" y="6340320"/>
            <a:ext cx="1177920" cy="517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553080" y="1066680"/>
            <a:ext cx="2216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27160"/>
            <a:ext cx="9144000" cy="21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600" spc="-1" strike="noStrike">
                <a:solidFill>
                  <a:srgbClr val="fafd00"/>
                </a:solidFill>
                <a:latin typeface="Times New Roman"/>
              </a:rPr>
              <a:t>Thank You!</a:t>
            </a:r>
            <a:endParaRPr b="1" lang="en-US" sz="11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244880" cy="12445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95120" y="4421160"/>
            <a:ext cx="2102040" cy="1839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National Association of Clean Water Agencies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005 Developments in Clean Water Law</a:t>
            </a:r>
            <a:br>
              <a:rPr sz="3200"/>
            </a:br>
            <a:br>
              <a:rPr sz="1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anta Fe, New Mexico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ovember 9-11, 2005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struction Law: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Managing Risks and Dealing With Dispute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77120" y="4876920"/>
            <a:ext cx="25905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Neal J. Sweeney, Es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Kilpatrick Stockton L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Suite 2800 1100 Peachtree 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Atlanta, GA  30309-45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(404) 815-66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nsweeney@kilpatrickstockton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www.KilpatrickStockton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3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33520" y="2354400"/>
            <a:ext cx="7772400" cy="268128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Owner’s Liability to the Contractor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pearin Doctrine:Implied warranty of the Adequacy of the plans &amp; specification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iability is not based on owner’s authorship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 theory: Strict liabilit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amages + causation = Owner liabilit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imitations on liability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tent defects (knew or should have know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ntract risk shift to contractor: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799920" indent="-159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ZapfDingbats BT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Duty to find, not just advise of known defects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799920" indent="-159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ZapfDingbats BT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Reliance on contractor's expertise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uty to mitigat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228600"/>
            <a:ext cx="1219320" cy="1066680"/>
            <a:chOff x="228600" y="228600"/>
            <a:chExt cx="1219320" cy="1066680"/>
          </a:xfrm>
        </p:grpSpPr>
        <p:sp>
          <p:nvSpPr>
            <p:cNvPr id="100" name=""/>
            <p:cNvSpPr/>
            <p:nvPr/>
          </p:nvSpPr>
          <p:spPr>
            <a:xfrm>
              <a:off x="228600" y="228600"/>
              <a:ext cx="1219320" cy="10666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19120" y="228600"/>
              <a:ext cx="719280" cy="10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ntractor's Potential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Liability for Design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219320"/>
            <a:ext cx="770544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33480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erformance Specif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Design/Build Respo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Design Specifications vs.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erformance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33480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hop Drawings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Liability for Design Chan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Designer Approval is not  Acceptance of 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85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What Constitutes a Design Chan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33480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condary Design Re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ill in the Gap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ield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 De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9520">
              <a:lnSpc>
                <a:spcPct val="100000"/>
              </a:lnSpc>
              <a:spcBef>
                <a:spcPts val="125"/>
              </a:spcBef>
              <a:buClr>
                <a:srgbClr val="fafd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ermits, Codes &amp; Reg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afd00"/>
              </a:buClr>
              <a:buFont typeface="Swis721 Blk BT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334800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Font typeface="Swis721 Blk BT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48720" y="6351480"/>
            <a:ext cx="12952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42aa1"/>
            </a:gs>
            <a:gs pos="50000">
              <a:srgbClr val="063de8"/>
            </a:gs>
            <a:gs pos="100000">
              <a:srgbClr val="042a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1280" y="1366920"/>
            <a:ext cx="8848800" cy="4857840"/>
            <a:chOff x="71280" y="1366920"/>
            <a:chExt cx="8848800" cy="4857840"/>
          </a:xfrm>
        </p:grpSpPr>
        <p:grpSp>
          <p:nvGrpSpPr>
            <p:cNvPr id="106" name=""/>
            <p:cNvGrpSpPr/>
            <p:nvPr/>
          </p:nvGrpSpPr>
          <p:grpSpPr>
            <a:xfrm>
              <a:off x="3352680" y="1752120"/>
              <a:ext cx="2895840" cy="2133720"/>
              <a:chOff x="3352680" y="1752120"/>
              <a:chExt cx="2895840" cy="2133720"/>
            </a:xfrm>
          </p:grpSpPr>
          <p:sp>
            <p:nvSpPr>
              <p:cNvPr id="107" name=""/>
              <p:cNvSpPr/>
              <p:nvPr/>
            </p:nvSpPr>
            <p:spPr>
              <a:xfrm rot="10800000">
                <a:off x="3352680" y="1751760"/>
                <a:ext cx="2895840" cy="2133720"/>
              </a:xfrm>
              <a:prstGeom prst="triangle">
                <a:avLst>
                  <a:gd name="adj" fmla="val 5112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652920" y="1824120"/>
                <a:ext cx="2219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The Liability Ga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81520" y="2509920"/>
                <a:ext cx="1762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wis721 Blk BT"/>
                  </a:rPr>
                  <a:t>OW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6326280" y="3583080"/>
              <a:ext cx="1825560" cy="39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wis721 Blk BT"/>
                </a:rPr>
                <a:t>GEOT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640480" y="4649760"/>
              <a:ext cx="3273480" cy="1575000"/>
              <a:chOff x="5640480" y="4649760"/>
              <a:chExt cx="3273480" cy="1575000"/>
            </a:xfrm>
          </p:grpSpPr>
          <p:sp>
            <p:nvSpPr>
              <p:cNvPr id="112" name=""/>
              <p:cNvSpPr/>
              <p:nvPr/>
            </p:nvSpPr>
            <p:spPr>
              <a:xfrm>
                <a:off x="6249960" y="4649760"/>
                <a:ext cx="200520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DESIGN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40480" y="5830920"/>
                <a:ext cx="327348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SUBCONSULT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44040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97536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1032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78680" y="5032440"/>
                <a:ext cx="0" cy="771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06360" y="4649760"/>
              <a:ext cx="3349800" cy="1552680"/>
              <a:chOff x="306360" y="4649760"/>
              <a:chExt cx="3349800" cy="1552680"/>
            </a:xfrm>
          </p:grpSpPr>
          <p:sp>
            <p:nvSpPr>
              <p:cNvPr id="119" name=""/>
              <p:cNvSpPr/>
              <p:nvPr/>
            </p:nvSpPr>
            <p:spPr>
              <a:xfrm>
                <a:off x="306360" y="5808600"/>
                <a:ext cx="334980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SUBCONTRACT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12536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67328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22084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700360" y="5033880"/>
                <a:ext cx="0" cy="7984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7480" y="4649760"/>
                <a:ext cx="2390760" cy="393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wis721 Blk BT"/>
                  </a:rPr>
                  <a:t>CONTRA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008080" y="2671920"/>
              <a:ext cx="1890720" cy="1993680"/>
            </a:xfrm>
            <a:custGeom>
              <a:avLst/>
              <a:gdLst/>
              <a:ahLst/>
              <a:rect l="l" t="t" r="r" b="b"/>
              <a:pathLst>
                <a:path w="1191" h="1256">
                  <a:moveTo>
                    <a:pt x="0" y="1255"/>
                  </a:moveTo>
                  <a:lnTo>
                    <a:pt x="4" y="1222"/>
                  </a:lnTo>
                  <a:lnTo>
                    <a:pt x="4" y="1175"/>
                  </a:lnTo>
                  <a:lnTo>
                    <a:pt x="8" y="1123"/>
                  </a:lnTo>
                  <a:lnTo>
                    <a:pt x="8" y="1067"/>
                  </a:lnTo>
                  <a:lnTo>
                    <a:pt x="8" y="1001"/>
                  </a:lnTo>
                  <a:lnTo>
                    <a:pt x="8" y="935"/>
                  </a:lnTo>
                  <a:lnTo>
                    <a:pt x="12" y="790"/>
                  </a:lnTo>
                  <a:lnTo>
                    <a:pt x="23" y="644"/>
                  </a:lnTo>
                  <a:lnTo>
                    <a:pt x="35" y="573"/>
                  </a:lnTo>
                  <a:lnTo>
                    <a:pt x="51" y="508"/>
                  </a:lnTo>
                  <a:lnTo>
                    <a:pt x="67" y="442"/>
                  </a:lnTo>
                  <a:lnTo>
                    <a:pt x="90" y="385"/>
                  </a:lnTo>
                  <a:lnTo>
                    <a:pt x="118" y="334"/>
                  </a:lnTo>
                  <a:lnTo>
                    <a:pt x="153" y="291"/>
                  </a:lnTo>
                  <a:lnTo>
                    <a:pt x="196" y="254"/>
                  </a:lnTo>
                  <a:lnTo>
                    <a:pt x="243" y="221"/>
                  </a:lnTo>
                  <a:lnTo>
                    <a:pt x="302" y="193"/>
                  </a:lnTo>
                  <a:lnTo>
                    <a:pt x="369" y="164"/>
                  </a:lnTo>
                  <a:lnTo>
                    <a:pt x="436" y="141"/>
                  </a:lnTo>
                  <a:lnTo>
                    <a:pt x="510" y="122"/>
                  </a:lnTo>
                  <a:lnTo>
                    <a:pt x="664" y="89"/>
                  </a:lnTo>
                  <a:lnTo>
                    <a:pt x="821" y="61"/>
                  </a:lnTo>
                  <a:lnTo>
                    <a:pt x="895" y="52"/>
                  </a:lnTo>
                  <a:lnTo>
                    <a:pt x="966" y="42"/>
                  </a:lnTo>
                  <a:lnTo>
                    <a:pt x="1033" y="33"/>
                  </a:lnTo>
                  <a:lnTo>
                    <a:pt x="1092" y="23"/>
                  </a:lnTo>
                  <a:lnTo>
                    <a:pt x="1147" y="9"/>
                  </a:lnTo>
                  <a:lnTo>
                    <a:pt x="119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53200" y="2631960"/>
              <a:ext cx="1936440" cy="922320"/>
            </a:xfrm>
            <a:custGeom>
              <a:avLst/>
              <a:gdLst/>
              <a:ahLst/>
              <a:rect l="l" t="t" r="r" b="b"/>
              <a:pathLst>
                <a:path w="1220" h="581">
                  <a:moveTo>
                    <a:pt x="0" y="150"/>
                  </a:moveTo>
                  <a:lnTo>
                    <a:pt x="29" y="143"/>
                  </a:lnTo>
                  <a:lnTo>
                    <a:pt x="58" y="136"/>
                  </a:lnTo>
                  <a:lnTo>
                    <a:pt x="139" y="111"/>
                  </a:lnTo>
                  <a:lnTo>
                    <a:pt x="235" y="79"/>
                  </a:lnTo>
                  <a:lnTo>
                    <a:pt x="338" y="46"/>
                  </a:lnTo>
                  <a:lnTo>
                    <a:pt x="448" y="21"/>
                  </a:lnTo>
                  <a:lnTo>
                    <a:pt x="551" y="3"/>
                  </a:lnTo>
                  <a:lnTo>
                    <a:pt x="602" y="0"/>
                  </a:lnTo>
                  <a:lnTo>
                    <a:pt x="653" y="0"/>
                  </a:lnTo>
                  <a:lnTo>
                    <a:pt x="697" y="3"/>
                  </a:lnTo>
                  <a:lnTo>
                    <a:pt x="734" y="14"/>
                  </a:lnTo>
                  <a:lnTo>
                    <a:pt x="771" y="32"/>
                  </a:lnTo>
                  <a:lnTo>
                    <a:pt x="808" y="54"/>
                  </a:lnTo>
                  <a:lnTo>
                    <a:pt x="844" y="82"/>
                  </a:lnTo>
                  <a:lnTo>
                    <a:pt x="881" y="118"/>
                  </a:lnTo>
                  <a:lnTo>
                    <a:pt x="918" y="154"/>
                  </a:lnTo>
                  <a:lnTo>
                    <a:pt x="955" y="193"/>
                  </a:lnTo>
                  <a:lnTo>
                    <a:pt x="1013" y="279"/>
                  </a:lnTo>
                  <a:lnTo>
                    <a:pt x="1072" y="369"/>
                  </a:lnTo>
                  <a:lnTo>
                    <a:pt x="1131" y="451"/>
                  </a:lnTo>
                  <a:lnTo>
                    <a:pt x="1153" y="490"/>
                  </a:lnTo>
                  <a:lnTo>
                    <a:pt x="1175" y="526"/>
                  </a:lnTo>
                  <a:lnTo>
                    <a:pt x="1197" y="555"/>
                  </a:lnTo>
                  <a:lnTo>
                    <a:pt x="1219" y="5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25920" y="2884320"/>
              <a:ext cx="1073160" cy="1729080"/>
            </a:xfrm>
            <a:custGeom>
              <a:avLst/>
              <a:gdLst/>
              <a:ahLst/>
              <a:rect l="l" t="t" r="r" b="b"/>
              <a:pathLst>
                <a:path w="676" h="1089">
                  <a:moveTo>
                    <a:pt x="0" y="0"/>
                  </a:moveTo>
                  <a:lnTo>
                    <a:pt x="27" y="33"/>
                  </a:lnTo>
                  <a:lnTo>
                    <a:pt x="59" y="79"/>
                  </a:lnTo>
                  <a:lnTo>
                    <a:pt x="105" y="135"/>
                  </a:lnTo>
                  <a:lnTo>
                    <a:pt x="151" y="196"/>
                  </a:lnTo>
                  <a:lnTo>
                    <a:pt x="256" y="321"/>
                  </a:lnTo>
                  <a:lnTo>
                    <a:pt x="302" y="382"/>
                  </a:lnTo>
                  <a:lnTo>
                    <a:pt x="341" y="437"/>
                  </a:lnTo>
                  <a:lnTo>
                    <a:pt x="406" y="540"/>
                  </a:lnTo>
                  <a:lnTo>
                    <a:pt x="472" y="632"/>
                  </a:lnTo>
                  <a:lnTo>
                    <a:pt x="531" y="725"/>
                  </a:lnTo>
                  <a:lnTo>
                    <a:pt x="577" y="809"/>
                  </a:lnTo>
                  <a:lnTo>
                    <a:pt x="616" y="893"/>
                  </a:lnTo>
                  <a:lnTo>
                    <a:pt x="642" y="972"/>
                  </a:lnTo>
                  <a:lnTo>
                    <a:pt x="662" y="1037"/>
                  </a:lnTo>
                  <a:lnTo>
                    <a:pt x="668" y="1065"/>
                  </a:lnTo>
                  <a:lnTo>
                    <a:pt x="675" y="108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457200" y="1981080"/>
            <a:ext cx="1397160" cy="181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981080"/>
                      <a:ext cx="1397160" cy="18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71280" y="1366920"/>
              <a:ext cx="237204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Warranty</a:t>
              </a:r>
              <a:br>
                <a:rPr sz="1600"/>
              </a:br>
              <a:r>
                <a:rPr b="1" lang="en-US" sz="2400" spc="-1" strike="noStrike">
                  <a:solidFill>
                    <a:srgbClr val="fafd00"/>
                  </a:solidFill>
                  <a:latin typeface="Swis721 Blk BT"/>
                </a:rPr>
                <a:t>–</a:t>
              </a: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Strict Liability</a:t>
              </a:r>
              <a:r>
                <a:rPr b="1" lang="en-US" sz="2400" spc="-1" strike="noStrike">
                  <a:solidFill>
                    <a:srgbClr val="fafd00"/>
                  </a:solidFill>
                  <a:latin typeface="Swis721 Blk BT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6858000" y="2133720"/>
            <a:ext cx="1994040" cy="106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133720"/>
                      <a:ext cx="1994040" cy="10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6548400" y="1519200"/>
              <a:ext cx="237168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Profess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Swis721 Blk BT"/>
                </a:rPr>
                <a:t>Neglig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3809880" y="5029200"/>
            <a:ext cx="1841760" cy="988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5029200"/>
                      <a:ext cx="1841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6" name=""/>
          <p:cNvGrpSpPr/>
          <p:nvPr/>
        </p:nvGrpSpPr>
        <p:grpSpPr>
          <a:xfrm>
            <a:off x="228600" y="228600"/>
            <a:ext cx="1219320" cy="1066680"/>
            <a:chOff x="228600" y="228600"/>
            <a:chExt cx="1219320" cy="1066680"/>
          </a:xfrm>
        </p:grpSpPr>
        <p:sp>
          <p:nvSpPr>
            <p:cNvPr id="137" name=""/>
            <p:cNvSpPr/>
            <p:nvPr/>
          </p:nvSpPr>
          <p:spPr>
            <a:xfrm>
              <a:off x="228600" y="228600"/>
              <a:ext cx="1219320" cy="10666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519120" y="228600"/>
              <a:ext cx="719280" cy="10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ahoma"/>
              </a:rPr>
              <a:t>Who Pays for Defective Design?</a:t>
            </a:r>
            <a:br>
              <a:rPr sz="32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ahoma"/>
              </a:rPr>
              <a:t>Build to Design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77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62280" y="449568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rofessional Negli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876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kslogo_color" descr=""/>
          <p:cNvPicPr/>
          <p:nvPr/>
        </p:nvPicPr>
        <p:blipFill>
          <a:blip r:embed="rId8"/>
          <a:stretch/>
        </p:blipFill>
        <p:spPr>
          <a:xfrm>
            <a:off x="7848720" y="6351480"/>
            <a:ext cx="12952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Designer’s Liability to Owner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reach of contract, but judged on a professional negligence standar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fessionals are not supposed to be perfec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wner must demonstrat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e applicable standard of car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at the designer violated the standard of car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hat the negligence was the proximate cause of the Owner’s damage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4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Owner’s “Liability Gap”: Liability to the Contractor but no recovery against Designer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1244"/>
            </a:gs>
            <a:gs pos="100000">
              <a:srgbClr val="063d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26240" y="1319040"/>
            <a:ext cx="1244520" cy="1244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41080" y="2170080"/>
            <a:ext cx="8297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sign Function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aseline For Evaluating Negligenc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nly Applicable If No Guarantees/Warrantie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ven If Unstated, It Applie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andard of Care May Be Raise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y Express Statement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ZapfDingbats BT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y Special Expertis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ZapfDingbats BT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strued As Performance Guarantee?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61240" y="4054320"/>
            <a:ext cx="1778040" cy="1473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7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Standard of Care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0" name="kslogo_color" descr=""/>
          <p:cNvPicPr/>
          <p:nvPr/>
        </p:nvPicPr>
        <p:blipFill>
          <a:blip r:embed="rId3"/>
          <a:stretch/>
        </p:blipFill>
        <p:spPr>
          <a:xfrm>
            <a:off x="7848720" y="6351480"/>
            <a:ext cx="12952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9:01:09Z</dcterms:created>
  <dc:creator>Neal Sweeney</dc:creator>
  <dc:description>2/19/99</dc:description>
  <dc:language>en-US</dc:language>
  <cp:lastModifiedBy> </cp:lastModifiedBy>
  <cp:lastPrinted>2000-01-14T15:06:47Z</cp:lastPrinted>
  <dcterms:modified xsi:type="dcterms:W3CDTF">2005-11-10T15:54:30Z</dcterms:modified>
  <cp:revision>64</cp:revision>
  <dc:subject/>
  <dc:title>U of Florida DBIA</dc:title>
</cp:coreProperties>
</file>